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type.wav" ContentType="audio/x-wav"/>
  <Override PartName="/ppt/media/arrow.wav" ContentType="audio/x-wav"/>
  <Override PartName="/ppt/media/cashreg.wav" ContentType="audio/x-wav"/>
  <Override PartName="/ppt/media/coin.wav" ContentType="audio/x-wav"/>
  <Override PartName="/ppt/media/wind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5DD4-06EE-45AE-AD12-7F26582C7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76B0-A9B8-4411-AECE-F87AC265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E477-B460-481A-BFE4-86B498770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2E3E-AC92-459A-80EA-74FE77672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3C6F-A80C-4249-B83F-7B06EF82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5FE8-438F-4AD0-AD37-0CD323A0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9DD3-2AB8-4D69-B830-78BA3419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453D-F9B4-4581-9E07-A5EBB8F0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D138-5AA0-449F-8901-E2E399CE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A437-AB86-4E88-AB5B-C6B0C615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732B-3489-4B79-9803-E29ACC30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F856-C6AC-49D7-A863-A7EBD5CF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2DAA-C831-473A-BA1E-80E1ADEC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8384-2AE8-4287-96EE-59A92408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CE18-3562-4818-92F6-C18E816D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10AD-6081-4B82-8257-ABBE45D10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63A2-3F59-4B41-BC64-FCB4893A1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8DD7-7D09-4E1A-B397-F27687DA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51CB-BE13-4299-B7FF-C9EB9C82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0CB9-62F6-4AF9-A007-892D02E6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6BDA-152E-4013-A2FD-A789F9D1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EA84-B3DB-4A73-AE95-A024B7D9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0C03-EEE1-4E53-B793-46FD3EF3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BE08-529C-4A9E-B8EA-59D438FF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 algn="r" rtl="1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 algn="r" rtl="1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 algn="r" rtl="1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8A69-55F9-47AE-8066-1F57568CCFB2}" type="datetime3">
              <a:rPr b="0" lang="ar-SA" sz="1200" spc="-1" strike="noStrike">
                <a:solidFill>
                  <a:srgbClr val="b2b2b2"/>
                </a:solidFill>
                <a:latin typeface="Tahoma"/>
              </a:rPr>
              <a:t>الأربعاء 29 يوليو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486040" y="6504840"/>
            <a:ext cx="2895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323880" y="6205680"/>
            <a:ext cx="677880" cy="57600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DF0C-40C1-4AB7-9803-BAC59EB2CDAA}" type="slidenum">
              <a:rPr b="1" lang="ar-SA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grpSp>
          <p:nvGrpSpPr>
            <p:cNvPr id="11" name=""/>
            <p:cNvGrpSpPr/>
            <p:nvPr/>
          </p:nvGrpSpPr>
          <p:grpSpPr>
            <a:xfrm>
              <a:off x="0" y="2286000"/>
              <a:ext cx="1066680" cy="1066680"/>
              <a:chOff x="0" y="2286000"/>
              <a:chExt cx="1066680" cy="1066680"/>
            </a:xfrm>
          </p:grpSpPr>
          <p:sp>
            <p:nvSpPr>
              <p:cNvPr id="12" name=""/>
              <p:cNvSpPr/>
              <p:nvPr/>
            </p:nvSpPr>
            <p:spPr>
              <a:xfrm>
                <a:off x="0" y="2286000"/>
                <a:ext cx="533520" cy="53352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33520" y="2819520"/>
                <a:ext cx="533160" cy="53316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0" y="2286000"/>
              <a:ext cx="53352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33520" y="281952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grpSp>
          <p:nvGrpSpPr>
            <p:cNvPr id="17" name=""/>
            <p:cNvGrpSpPr/>
            <p:nvPr/>
          </p:nvGrpSpPr>
          <p:grpSpPr>
            <a:xfrm>
              <a:off x="762120" y="152280"/>
              <a:ext cx="1981080" cy="1295640"/>
              <a:chOff x="762120" y="152280"/>
              <a:chExt cx="1981080" cy="1295640"/>
            </a:xfrm>
          </p:grpSpPr>
          <p:sp>
            <p:nvSpPr>
              <p:cNvPr id="18" name=""/>
              <p:cNvSpPr/>
              <p:nvPr/>
            </p:nvSpPr>
            <p:spPr>
              <a:xfrm>
                <a:off x="1981080" y="533520"/>
                <a:ext cx="381240" cy="38088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2120" y="10666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3000" y="685800"/>
                <a:ext cx="380880" cy="38088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362320" y="1522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" name=""/>
            <p:cNvSpPr/>
            <p:nvPr/>
          </p:nvSpPr>
          <p:spPr>
            <a:xfrm>
              <a:off x="1981080" y="533520"/>
              <a:ext cx="38124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143000" y="685800"/>
              <a:ext cx="38088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6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144792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AF6D-D12C-4351-8708-8C1C0D3584D9}" type="datetime3">
              <a:rPr b="0" lang="ar-SA" sz="1200" spc="-1" strike="noStrike">
                <a:solidFill>
                  <a:srgbClr val="b2b2b2"/>
                </a:solidFill>
                <a:latin typeface="Tahoma"/>
              </a:rPr>
              <a:t>الأربعاء 29 يوليو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54100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3522600" y="6145200"/>
            <a:ext cx="736560" cy="636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DDA3-14E3-470F-A035-B514BB58097F}" type="slidenum">
              <a:rPr b="1" lang="ar-SA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00"/>
                </a:solidFill>
                <a:latin typeface="Tahoma"/>
                <a:cs typeface="DecoType Naskh Variants"/>
              </a:rPr>
              <a:t>أضْرُبُ الخبَرِ</a:t>
            </a:r>
            <a:endParaRPr b="0" lang="en-US" sz="1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ff00"/>
                </a:solidFill>
                <a:latin typeface="Tahoma"/>
                <a:cs typeface="DecoType Naskh Variants"/>
              </a:rPr>
              <a:t>علمُ المَعَانِى</a:t>
            </a:r>
            <a:endParaRPr b="0" lang="en-US" sz="96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8ECA-24AE-4B1F-8215-F39720988C2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64E6C23-FDBC-43DB-8F1D-3DFC725CB4CA}" type="datetime3">
              <a:rPr lang="en-US"/>
              <a:t>July 29, 2026</a:t>
            </a:fld>
          </a:p>
        </p:txBody>
      </p:sp>
    </p:spTree>
  </p:cSld>
  <p:transition>
    <p:wheel spokes="1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98064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ffff00"/>
                </a:solidFill>
                <a:uFillTx/>
                <a:latin typeface="Tahoma"/>
                <a:ea typeface="DecoType Naskh Variants"/>
              </a:rPr>
              <a:t>1</a:t>
            </a:r>
            <a:r>
              <a:rPr b="0" lang="ar-SA" sz="6000" spc="-1" strike="noStrike" u="sng">
                <a:solidFill>
                  <a:srgbClr val="ffff00"/>
                </a:solidFill>
                <a:uFillTx/>
                <a:latin typeface="Tahoma"/>
                <a:ea typeface="DecoType Naskh Variants"/>
              </a:rPr>
              <a:t>- الابتدائى 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2349000"/>
            <a:ext cx="7086600" cy="38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ذى يكون خالياً من المؤكدات لأنَّ المخاطب خالى الذهن من الحكم الذى تضمَّنه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قال تعالى : </a:t>
            </a: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بَلْ فعَلهُ كبيرُهُمْ هذ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قول المتنبِّى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أنَا الذى نظرَ الأعْمَى إلى أدَب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                      و أسْمَعَتْ كلمَاتِى مَنْ بهِ صَمَم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A19B-E411-4733-8B55-FF18DA5D8B9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3D016-3D1D-4168-88F7-BA50554AA5B1}" type="datetime3">
              <a:rPr lang="en-US"/>
              <a:t>July 29, 2026</a:t>
            </a:fld>
          </a:p>
        </p:txBody>
      </p:sp>
    </p:spTree>
  </p:cSld>
  <p:transition>
    <p:pull dir="d"/>
    <p:sndAc>
      <p:stSnd>
        <p:snd r:embed="rId1" name="type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ال أبو تمَّام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يَنالُ الفتىَ مِنْ عَيْشِهِ و هوَ جَاهِل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                  و يُكدِى الفتى فِى دَهْرهِِ و هوَ عَالِم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و لو كانتْ الأرْزَاقُ تجرى عَلى ا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                   حِجَا هَلكْنَ إذاً مِنْ جَهْلِهنَّ البَهَائـِـمُ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ff00"/>
                </a:solidFill>
                <a:latin typeface="Tahoma"/>
                <a:cs typeface="DecoType Naskh Extensions"/>
              </a:rPr>
              <a:t>هذه الأخبار لا تشتمل على مؤكدات و يسمَّى هذا الضرب من الأخبار ( </a:t>
            </a:r>
            <a:r>
              <a:rPr b="0" lang="ar-SA" sz="40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ابتدائيَّاً</a:t>
            </a:r>
            <a:r>
              <a:rPr b="0" lang="ar-SA" sz="4000" spc="-1" strike="noStrike">
                <a:solidFill>
                  <a:srgbClr val="00ff00"/>
                </a:solidFill>
                <a:latin typeface="Tahoma"/>
                <a:ea typeface="DecoType Naskh Extensions"/>
              </a:rPr>
              <a:t> )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3F13-F2C6-43B9-850B-BD272F1C783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89B81-5EFA-4D82-BE34-C18CB58B6FC0}" type="datetime3">
              <a:rPr lang="en-US"/>
              <a:t>July 29, 2026</a:t>
            </a:fld>
          </a:p>
        </p:txBody>
      </p:sp>
    </p:spTree>
  </p:cSld>
  <p:transition>
    <p:strips dir="rd"/>
    <p:sndAc>
      <p:stSnd>
        <p:snd r:embed="rId1" name="arrow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907920"/>
            <a:ext cx="7086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00ff00"/>
                </a:solidFill>
                <a:uFillTx/>
                <a:latin typeface="Tahoma"/>
                <a:ea typeface="DecoType Naskh Variants"/>
              </a:rPr>
              <a:t>2</a:t>
            </a:r>
            <a:r>
              <a:rPr b="0" lang="ar-SA" sz="6000" spc="-1" strike="noStrike" u="sng">
                <a:solidFill>
                  <a:srgbClr val="00ff00"/>
                </a:solidFill>
                <a:uFillTx/>
                <a:latin typeface="Tahoma"/>
                <a:ea typeface="DecoType Naskh Variants"/>
              </a:rPr>
              <a:t>- الطلبى 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4920" y="2060280"/>
            <a:ext cx="70866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ذى يتردَّد فيه المخاطب و لا يعرف مدى صحته و يؤكد بمؤكد واح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“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ذْ قالوا ليُوسُفُ و أخُوهُ أحَبُّ إلى أبينَا مِنَّا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إنَّ العُيُونَ التِى فِى طرْفِهَا حَوَر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                             قتلننَا ثمَّ لمْ يُحْيينَ قتلانـَـــــــا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قدْ يَعْلمُ الله المُعَوِّقينَ مِنكمْ و القائِلِينَ لإخوَانِهمْ هَلمَّ إليْنَا و لا يَأتونَ البَأسَ إلا قليلا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99F3-A35C-4044-B80E-0F3DFCC609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D3F8E-C565-43B2-9A7D-BF1307A470F0}" type="datetime3">
              <a:rPr lang="en-US"/>
              <a:t>July 29, 2026</a:t>
            </a:fld>
          </a:p>
        </p:txBody>
      </p:sp>
    </p:spTree>
  </p:cSld>
  <p:transition>
    <p:strips dir="rd"/>
    <p:sndAc>
      <p:stSnd>
        <p:snd r:embed="rId1" name="cashreg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سرى الرفاء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نَّ البنَاءَ إذا مَا انْهَدَّ جَانِبُهُ    لمْ يَأمَنِ النَّاسُ أنْ يَنْهَدَّ بَاقِي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أبو العتاهي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نِّى رأيْتُ عَوَاقِبَ الدنيَا        فترَكتُ مَا أهْوَى لِمَا أخشَ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شريف الرَّضى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قدْ يَبْلغُ الرَّجُلُ الجَبَانُ بمَالِهِ   مَا ليْسَ يَبْلغهُ الشجَاعُ المُعْدم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9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يلاحظ فى هذه الأمثلة أنَّ المخاطب له بالحكم إلمام قليل يمتزج بالشكِّ و لهذا أكد الخبر بمؤكد واحد و يسمَّى هذا الضرب من الأخبار ( </a:t>
            </a:r>
            <a:r>
              <a:rPr b="0" lang="ar-SA" sz="3600" spc="-1" strike="noStrike">
                <a:solidFill>
                  <a:srgbClr val="00ff00"/>
                </a:solidFill>
                <a:latin typeface="Tahoma"/>
                <a:cs typeface="DecoType Naskh Extensions"/>
              </a:rPr>
              <a:t>طلبيَّاً</a:t>
            </a:r>
            <a:r>
              <a:rPr b="0" lang="ar-SA" sz="3600" spc="-1" strike="noStrike">
                <a:solidFill>
                  <a:srgbClr val="ffff00"/>
                </a:solidFill>
                <a:latin typeface="Tahoma"/>
                <a:ea typeface="DecoType Naskh Extensions"/>
              </a:rPr>
              <a:t> )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5D20-7DAB-46E4-9891-FED6E6D3550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AED08E-8A73-4249-A179-B4991E42F740}" type="datetime3">
              <a:rPr lang="en-US"/>
              <a:t>July 29, 2026</a:t>
            </a:fld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907920"/>
            <a:ext cx="7086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ff0066"/>
                </a:solidFill>
                <a:uFillTx/>
                <a:latin typeface="Tahoma"/>
                <a:ea typeface="DecoType Naskh Extensions"/>
              </a:rPr>
              <a:t>3</a:t>
            </a:r>
            <a:r>
              <a:rPr b="0" lang="ar-SA" sz="4800" spc="-1" strike="noStrike" u="sng">
                <a:solidFill>
                  <a:srgbClr val="ff0066"/>
                </a:solidFill>
                <a:uFillTx/>
                <a:latin typeface="Tahoma"/>
                <a:ea typeface="DecoType Naskh Extensions"/>
              </a:rPr>
              <a:t>- الإنكارى 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9000"/>
            <a:ext cx="70866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 هو الذى ينكره المخاطب إنكاراً يحتاج إلى أن يؤكد بأكثر من مؤك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إليْكمْ لمُرْسَلونَ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كمْ لذائِقو العَذابِ الألِيم ”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لتُبْلوُنَّ فى أمْوَالِكمْ و أنفسِكم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لنصْفحُ عَنْ مَجَاهِل قوْمِنَا      و نقِيمُ سَالِفةَ العَدُوِّ الأصْيَ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8584-C95F-4A71-96D4-1996A52097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33C8B-2C66-4E63-BC49-B902982B7613}" type="datetime3">
              <a:rPr lang="en-US"/>
              <a:t>July 29, 2026</a:t>
            </a:fld>
          </a:p>
        </p:txBody>
      </p:sp>
    </p:spTree>
  </p:cSld>
  <p:transition>
    <p:comb dir="horz"/>
    <p:sndAc>
      <p:stSnd>
        <p:snd r:embed="rId1" name="wind.wav"/>
      </p:stSnd>
    </p:sndAc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حسان بن ثابت – رضى الله عنه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و إنِّى لحُلوٌ تعْترينِى مَرَارَةٌ     و إنِّى لترَّاكٌ لِمَا لمْ أعَوَّ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أرجانى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لفِى زمَنِ مَلآنَ مِنْ فِتن     فلا يُعَابُ بهِ مَلانَ مِنْ فَرَ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لبيد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و لقدْ عَلِمْتُ لتأتِيَنَّ مَنِيَّتى      إنَّ المَنايَا لا تطِيشُ سِهَامُهَ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فى هذه الطائفة المخاطب منكر للحكم جاحد له و لذلك أكد بأكثر من مؤكد و يسمَّى هذا الضرب</a:t>
            </a:r>
            <a:r>
              <a:rPr b="0" lang="ar-SA" sz="4000" spc="-1" strike="noStrike">
                <a:solidFill>
                  <a:srgbClr val="ff0066"/>
                </a:solidFill>
                <a:latin typeface="Tahoma"/>
                <a:ea typeface="DecoType Naskh Extensions"/>
              </a:rPr>
              <a:t> ( إنكاريَّاً )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7E36-1BEE-4940-9C42-9CC5DB4541A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9E423B-0FDF-4613-A14C-4863D6C90544}" type="datetime3">
              <a:rPr lang="en-US"/>
              <a:t>July 29, 2026</a:t>
            </a:fld>
          </a:p>
        </p:txBody>
      </p:sp>
    </p:spTree>
  </p:cSld>
  <p:transition>
    <p:push dir="r"/>
    <p:sndAc>
      <p:stSnd>
        <p:snd r:embed="rId1" name="type.wav"/>
      </p:stSnd>
    </p:sndAc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733840" y="1500120"/>
            <a:ext cx="4430520" cy="466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ع أطيب تمنيَّاتى بالتوفيق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أ / مجدى مختار إبراهيم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درس اللغة العربيَّة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50A4-BB1E-4DC0-A219-693FED9477A3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2D6BA8-569A-4EE8-93D0-3A413720275B}" type="datetime3">
              <a:rPr lang="en-US"/>
              <a:t>July 29, 2026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22:31:17Z</dcterms:created>
  <dc:creator>magdy                       </dc:creator>
  <dc:description/>
  <dc:language>en-US</dc:language>
  <cp:lastModifiedBy>magdy</cp:lastModifiedBy>
  <dcterms:modified xsi:type="dcterms:W3CDTF">2008-11-16T18:06:01Z</dcterms:modified>
  <cp:revision>12</cp:revision>
  <dc:subject/>
  <dc:title>التولالالالالالالاصية بخط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